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30FC-37C8-4737-8423-C744A27E9B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E7A3-949A-47D5-8E2D-FA4EA0520B53}" type="slidenum">
              <a:rPr b="0" lang="en-GB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Revision for the Boom in the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FB4-8C72-408F-B505-7BBDD643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59B2-15D6-46AA-8EA2-B6027715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0029-CC9A-4A4C-92F8-9B1E7CE3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9F8-457F-4F56-817E-78C93674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47B2-F465-4330-AD15-F946BCD0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340D-89BE-4B75-9573-32425021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8B67-615F-48FC-83E1-7207B539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126B-EB73-40F2-B6B1-8A3A1B23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4587-AD14-4C93-A320-49199CD7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478E-4B9D-4140-A81A-8FC197DD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96A6-C643-415F-891F-74DF3CA0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FD07-95BB-485C-98E1-AE23B59F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99CC-9FE1-4F22-94F2-EAF026BE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BBC1-34BB-4FFC-A009-FF21D26F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5956-7870-4FDF-B62A-A0EA952E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56E1-09BB-415E-A6F1-BF2386C4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D6AB-5C64-4B16-8D1D-86934FE3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0B5-FAB5-451B-9410-DDF66404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A96F-5512-48CD-ABBA-16E9ACD0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05C-0CC5-45DF-935C-A7E4DE13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CA5-2880-4C68-AAB1-59DBD67A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80A5-650A-4289-88F3-5B5A7BF4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ED5-84F3-4A9A-B815-888DCB91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B84-13D1-4064-8375-43D6CF30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B8E1-6702-4DCF-9A2B-2BE318ECB320}" type="slidenum">
              <a:rPr b="0" lang="en-GB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0BE7-8721-4979-AEE1-DBAEADC45ADA}" type="slidenum">
              <a:rPr b="0" lang="en-GB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1960" y="99036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bd189"/>
                </a:solidFill>
                <a:latin typeface="Times New Roman"/>
              </a:rPr>
              <a:t>Nazi Germany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90360" y="2666880"/>
            <a:ext cx="75438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aeaea"/>
                </a:solidFill>
                <a:latin typeface="Times New Roman"/>
              </a:rPr>
              <a:t>Putting Germany back to Work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895480" y="4800600"/>
            <a:ext cx="3962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By Mr RJ Huggins</a:t>
            </a:r>
            <a:br>
              <a:rPr sz="2400"/>
            </a:br>
            <a:r>
              <a:rPr b="0" lang="en-GB" sz="1800" spc="-1" strike="noStrike">
                <a:solidFill>
                  <a:srgbClr val="eaeaea"/>
                </a:solidFill>
                <a:latin typeface="Times New Roman"/>
              </a:rPr>
              <a:t>www.SchoolHistory.co.uk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Times New Roman"/>
              </a:rPr>
              <a:t>The Car Indust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40" name="Picture 3" descr="A:\BEATLE.JPG"/>
          <p:cNvPicPr/>
          <p:nvPr/>
        </p:nvPicPr>
        <p:blipFill>
          <a:blip r:embed="rId1"/>
          <a:stretch/>
        </p:blipFill>
        <p:spPr>
          <a:xfrm>
            <a:off x="1066680" y="1523880"/>
            <a:ext cx="7848720" cy="4496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1066680" y="6172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</a:rPr>
              <a:t>Recognise the design of this German Jeep called a Kubelwagen?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Cloud"/>
          <p:cNvSpPr/>
          <p:nvPr/>
        </p:nvSpPr>
        <p:spPr>
          <a:xfrm>
            <a:off x="3733920" y="2819520"/>
            <a:ext cx="2361960" cy="1582560"/>
          </a:xfrm>
          <a:custGeom>
            <a:avLst/>
            <a:gdLst>
              <a:gd name="textAreaLeft" fmla="*/ 325440 w 2361960"/>
              <a:gd name="textAreaRight" fmla="*/ 1868400 w 2361960"/>
              <a:gd name="textAreaTop" fmla="*/ 239040 h 1582560"/>
              <a:gd name="textAreaBottom" fmla="*/ 1270440 h 1582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03848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r Industr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477120" y="457200"/>
            <a:ext cx="236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</a:rPr>
              <a:t>Created Jobs in other industries because of the need for standardised part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066680" y="50292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</a:rPr>
              <a:t>Car Production could easily be switched to the production of military vehicl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066680" y="53352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</a:rPr>
              <a:t>Produced low cost cars which helped to keep the German people happ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16292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</a:rPr>
              <a:t>Stee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708660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</a:rPr>
              <a:t>Glas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70102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</a:rPr>
              <a:t>Rubb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7010280" y="5334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</a:rPr>
              <a:t>Leath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1" name="Line 11"/>
          <p:cNvSpPr/>
          <p:nvPr/>
        </p:nvSpPr>
        <p:spPr>
          <a:xfrm flipH="1">
            <a:off x="2895120" y="4114800"/>
            <a:ext cx="1143000" cy="9144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2" name="Line 12"/>
          <p:cNvSpPr/>
          <p:nvPr/>
        </p:nvSpPr>
        <p:spPr>
          <a:xfrm flipH="1" flipV="1">
            <a:off x="3352320" y="1904760"/>
            <a:ext cx="76212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3" name="Line 13"/>
          <p:cNvSpPr/>
          <p:nvPr/>
        </p:nvSpPr>
        <p:spPr>
          <a:xfrm flipV="1">
            <a:off x="5562720" y="1447920"/>
            <a:ext cx="1066680" cy="1371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7543800" y="22860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5" name="Line 16"/>
          <p:cNvSpPr/>
          <p:nvPr/>
        </p:nvSpPr>
        <p:spPr>
          <a:xfrm>
            <a:off x="7543800" y="327672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6" name="Line 17"/>
          <p:cNvSpPr/>
          <p:nvPr/>
        </p:nvSpPr>
        <p:spPr>
          <a:xfrm>
            <a:off x="7543800" y="4114800"/>
            <a:ext cx="0" cy="3808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7" name="Line 20"/>
          <p:cNvSpPr/>
          <p:nvPr/>
        </p:nvSpPr>
        <p:spPr>
          <a:xfrm>
            <a:off x="7543800" y="49528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8" name="Line 21"/>
          <p:cNvSpPr/>
          <p:nvPr/>
        </p:nvSpPr>
        <p:spPr>
          <a:xfrm>
            <a:off x="7543800" y="57150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6324480" y="6172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 Narrow"/>
              </a:rPr>
              <a:t>Cycle of Prosperit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Line 23"/>
          <p:cNvSpPr/>
          <p:nvPr/>
        </p:nvSpPr>
        <p:spPr>
          <a:xfrm flipH="1" flipV="1">
            <a:off x="5638320" y="4495320"/>
            <a:ext cx="762120" cy="1676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bd189"/>
                </a:solidFill>
                <a:latin typeface="Times New Roman"/>
              </a:rPr>
              <a:t>What other measures did Hitler introduce in order to reduce unemployment?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By 1934 all Jews were sacked from civil service jobs which were then given to German worke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Unemployed Jews were not register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Women lost their jobs which were given to me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People who refused jobs offered by the labour service were arrested and put into concentration camp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Times New Roman"/>
              </a:rPr>
              <a:t>GCSE Past Paper Ques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28840" y="1447920"/>
            <a:ext cx="3886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ccording to this cartoon what was the basis of German prosperity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What happens to people who refuse to take the jobs offered by the Nazi government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Who benefited from these changes to the German economy? Why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5" name="Picture 7" descr="C:\My Documents\My Pictures\20thC\Hitler\CARTOON.JPG"/>
          <p:cNvPicPr/>
          <p:nvPr/>
        </p:nvPicPr>
        <p:blipFill>
          <a:blip r:embed="rId1"/>
          <a:stretch/>
        </p:blipFill>
        <p:spPr>
          <a:xfrm>
            <a:off x="1066680" y="1447920"/>
            <a:ext cx="3703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219320" y="19051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Please e-mail reviews to hugy@sfe.co.uk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143000" y="2819520"/>
            <a:ext cx="723888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Please feel free to share any resources that will help support others in the classroom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Times New Roman"/>
              </a:rPr>
              <a:t>Downloaded from www.SchoolHistory.co.uk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bd189"/>
                </a:solidFill>
                <a:latin typeface="Times New Roman"/>
              </a:rPr>
              <a:t>The Situation in 1929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Germany relied on American money under the Dawes Plan to be able to pay for the Repara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When the American Stock Market crash on Wall Street, the USA stopped lending money to German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The German economy went into recess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3200" y="228600"/>
            <a:ext cx="3581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bd189"/>
                </a:solidFill>
                <a:latin typeface="Times New Roman"/>
              </a:rPr>
              <a:t>Germany 1933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038120" y="1523880"/>
            <a:ext cx="4876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By January 1933, unemployment  had reached 6,000,000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No one would loan Germany the Weimar Government couldn’t do anything to help the unemploy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Hitler was elected on a promise to give the German people ‘Bread &amp; Jobs.’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" name="Picture 6" descr="C:\My Documents\My Pictures\20thC\Hitler\POSTER.JPG"/>
          <p:cNvPicPr/>
          <p:nvPr/>
        </p:nvPicPr>
        <p:blipFill>
          <a:blip r:embed="rId1"/>
          <a:stretch/>
        </p:blipFill>
        <p:spPr>
          <a:xfrm>
            <a:off x="990720" y="1447920"/>
            <a:ext cx="29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bd189"/>
                </a:solidFill>
                <a:latin typeface="Times New Roman"/>
              </a:rPr>
              <a:t>Impact of Hitler’s Policies on Unemployment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990720" y="1523880"/>
          <a:ext cx="7772400" cy="48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777240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bd189"/>
                </a:solidFill>
                <a:latin typeface="Times New Roman"/>
              </a:rPr>
              <a:t>How did Hitler put Germany back to work?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0" name="Picture 3" descr="C:\My Documents\My Pictures\20thC\Hitler\JOBS.JPG"/>
          <p:cNvPicPr/>
          <p:nvPr/>
        </p:nvPicPr>
        <p:blipFill>
          <a:blip r:embed="rId1"/>
          <a:stretch/>
        </p:blipFill>
        <p:spPr>
          <a:xfrm>
            <a:off x="1143000" y="1371600"/>
            <a:ext cx="739152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bd189"/>
                </a:solidFill>
                <a:latin typeface="Times New Roman"/>
              </a:rPr>
              <a:t>RAD – The National Labour Service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Gave men jobs in public work sche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en in RAD had to wear a uniform &amp; live in camp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y were given free meals and pocket mone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Built: drainage ditches, schools, a new network of motorways and planted new forest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Picture 6" descr="C:\My Documents\My Pictures\20thC\Hitler\Rad.jpg"/>
          <p:cNvPicPr/>
          <p:nvPr/>
        </p:nvPicPr>
        <p:blipFill>
          <a:blip r:embed="rId1"/>
          <a:stretch/>
        </p:blipFill>
        <p:spPr>
          <a:xfrm>
            <a:off x="1066680" y="1447920"/>
            <a:ext cx="3251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Cloud"/>
          <p:cNvSpPr/>
          <p:nvPr/>
        </p:nvSpPr>
        <p:spPr>
          <a:xfrm>
            <a:off x="3124080" y="2362320"/>
            <a:ext cx="3124440" cy="2093760"/>
          </a:xfrm>
          <a:custGeom>
            <a:avLst/>
            <a:gdLst>
              <a:gd name="textAreaLeft" fmla="*/ 430560 w 3124440"/>
              <a:gd name="textAreaRight" fmla="*/ 2471760 w 3124440"/>
              <a:gd name="textAreaTop" fmla="*/ 316080 h 2093760"/>
              <a:gd name="textAreaBottom" fmla="*/ 1680480 h 2093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Text Box 1029"/>
          <p:cNvSpPr/>
          <p:nvPr/>
        </p:nvSpPr>
        <p:spPr>
          <a:xfrm>
            <a:off x="3505320" y="27432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What was the aim of Hitler’s Public Works Programme?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Text Box 1030"/>
          <p:cNvSpPr/>
          <p:nvPr/>
        </p:nvSpPr>
        <p:spPr>
          <a:xfrm>
            <a:off x="6400800" y="53352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 Narrow"/>
              </a:rPr>
              <a:t>Kick start the Cycle of Prosperity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Text Box 1032"/>
          <p:cNvSpPr/>
          <p:nvPr/>
        </p:nvSpPr>
        <p:spPr>
          <a:xfrm>
            <a:off x="5791320" y="495288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 Narrow"/>
              </a:rPr>
              <a:t>To improve the public transport network for industrial &amp; military us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Text Box 1034"/>
          <p:cNvSpPr/>
          <p:nvPr/>
        </p:nvSpPr>
        <p:spPr>
          <a:xfrm>
            <a:off x="914400" y="457200"/>
            <a:ext cx="281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 Narrow"/>
              </a:rPr>
              <a:t>To improve the living conditions of the German peopl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Text Box 1035"/>
          <p:cNvSpPr/>
          <p:nvPr/>
        </p:nvSpPr>
        <p:spPr>
          <a:xfrm>
            <a:off x="914400" y="4800600"/>
            <a:ext cx="297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 Narrow"/>
              </a:rPr>
              <a:t>To build impressive buildings so that the German people would feel proud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Line 1036"/>
          <p:cNvSpPr/>
          <p:nvPr/>
        </p:nvSpPr>
        <p:spPr>
          <a:xfrm flipV="1">
            <a:off x="5791320" y="1294920"/>
            <a:ext cx="106668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1" name="Line 1037"/>
          <p:cNvSpPr/>
          <p:nvPr/>
        </p:nvSpPr>
        <p:spPr>
          <a:xfrm>
            <a:off x="6095880" y="3733920"/>
            <a:ext cx="83844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2" name="Line 1038"/>
          <p:cNvSpPr/>
          <p:nvPr/>
        </p:nvSpPr>
        <p:spPr>
          <a:xfrm flipH="1">
            <a:off x="2590560" y="3962520"/>
            <a:ext cx="609480" cy="838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Line 1040"/>
          <p:cNvSpPr/>
          <p:nvPr/>
        </p:nvSpPr>
        <p:spPr>
          <a:xfrm flipH="1" flipV="1">
            <a:off x="2590920" y="1828800"/>
            <a:ext cx="914400" cy="838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bd189"/>
                </a:solidFill>
                <a:latin typeface="Times New Roman"/>
              </a:rPr>
              <a:t>Autarky – National Self Sufficiency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Hitler wanted to Germany a strong  independent country that was sufficient in food and material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Germany had lost the FWW because it had run out of food and war material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German scientist developed all sorts of artificial substitutes such as petrol from coal and coffee from acorn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se new substitutes were made in Germany and gave the unemployed jobs in new industri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Hitler also encouraged the growth of the car industr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038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Times New Roman"/>
              </a:rPr>
              <a:t>The Car Indust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54097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signed by Porsche and nicked named ‘The Peoples Car’, known today as the ……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Picture 8" descr="http://www.doc.eng.cmu.ac.th/course/cpe202/public_html/sec2/group8/Vint0073.jpg"/>
          <p:cNvPicPr/>
          <p:nvPr/>
        </p:nvPicPr>
        <p:blipFill>
          <a:blip r:embed="rId1"/>
          <a:stretch/>
        </p:blipFill>
        <p:spPr>
          <a:xfrm>
            <a:off x="1905120" y="1447920"/>
            <a:ext cx="518148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6T13:04:07Z</dcterms:created>
  <dc:creator>User</dc:creator>
  <dc:description/>
  <dc:language>en-US</dc:language>
  <cp:lastModifiedBy>.</cp:lastModifiedBy>
  <dcterms:modified xsi:type="dcterms:W3CDTF">2010-03-12T08:18:39Z</dcterms:modified>
  <cp:revision>15</cp:revision>
  <dc:subject/>
  <dc:title>Nazi Germany</dc:title>
</cp:coreProperties>
</file>